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2F7-69DB-485A-9803-1467740B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001-BAF3-4E2D-8AC3-8227B48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AF5-58BD-430E-BE6F-23CE6543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0B4-492E-4A2E-96E8-9B9933FC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F9B1-4844-4D82-8836-79D82895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2407-16C7-447B-99C6-FFC49F3D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2EA4-BE96-4B69-8241-C6AD00E2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B1B6-DA4E-47FC-BB84-E3107EF0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A6AF-C6A8-465B-BAFE-699017DC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D7F-69C0-4441-9906-2FBC799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EF31-7C31-47FF-926A-503B0A2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B57-E79F-496F-B28A-CD6481F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BC9-0AE1-4ADE-B7BF-B20CD0D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C5A-46F2-4CC1-A7D1-9E80A3D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6DE-2FBC-47E4-A601-DDFF6014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74AA-852A-4695-85E4-A33A0DDF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81F-9DD2-49E0-ADC7-9A772B1D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AB0F-26F6-44DC-9EEA-965E87F4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DAA8-5535-412B-A541-C8B5365B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B520-25D8-4B00-A215-ABC3CC3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508A-7C3A-432A-B2A4-ADED89E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868D-64C7-4316-88BE-C654AF3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BD1-3E6A-4033-A8CE-E79AD6D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8C79-FCFC-4C04-B0FE-0F17DAC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B6F5-5E6D-474A-A13A-D5E2507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D842-9EC4-43E8-9AB7-6C92023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4BF7-A847-46F4-857C-825C316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B85E-BB46-4025-AF6C-C9379DD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E38C-4CA0-418D-BDC9-303FD85E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DFF2-05D0-4B88-9227-7605C3EB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4EC0-75C2-4934-ADEA-79BB9812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10B1-424E-4910-9F3F-25997E38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6985-E9BD-45AE-876F-C6BBDA8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5A4-1FBC-4303-B7E1-C2905FE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362E-D67D-4859-9C64-35D1617B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8B07-6199-4748-98ED-079E2880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2F60-CB58-4667-8628-B0BBF2A6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1B82-FE03-48DD-8FBD-63927CF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6572-D80E-4FC1-B103-E0C7962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A174-F477-460A-8485-96E29EB7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0A32-AFD9-4474-BFBF-F071B579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1AFE6-869D-4312-B824-814090B1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0C98-93A4-4402-A77A-E4EB16C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EC7A-BD1C-4B6B-A1F0-A5602AE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9CB-3248-48FB-88E5-EB25A60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1BEE-EBDB-407F-8027-F1AE669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9D7A-D0C5-401E-B360-0C97E65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E18F-79CF-44D1-8F69-A113C86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6D6B-9FB3-49BA-B496-CB2D00C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ED70-3689-43B8-8EEF-8D2801E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410B-7404-4B05-8E25-69C1C2A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F7B5-A343-495C-9F35-4670E577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24E8-ED11-4A6B-B8E6-509895F7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0D19-9571-47C0-83B7-7DE8FB9B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B94D-5B2B-4B1E-9941-5A92CACE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F1B-D0C2-4879-8966-CAC9070D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7A96-EF68-4954-8668-73D2B0C1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1A2C-0D02-4BEF-A9C3-0CE47D9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9357-B7DE-480C-9952-791836A5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44DD-A0B9-4A11-A043-DDA4A15E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2BE5-31A3-4EBA-90EB-321C29F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8DDF-1CE6-484B-B485-5B671F6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152C-5F5A-4BD9-92BF-B8F41D7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A2CD-F7AD-45C2-B7A4-30FD52D8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5223-5A4C-4CAF-A6CC-41969B0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6B14-0E9A-4649-BF98-AAA396E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96F-3063-481D-A69B-B261E75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188D8-7186-490F-8B46-4B2398F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A06A-1FF4-4481-81DE-7B7DC98D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C99E-BEEB-4406-8575-8EA08DEF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FDB5-550E-4CFD-B834-12B50B6B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FC02-184C-4B15-9E0D-E2AD55C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55C97-2FE3-4B91-98BD-4332529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AE35-48AA-49F1-AA35-52986AE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837E-E1C8-43CF-A305-860C3FA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4F6B-7063-46E0-8446-140AC1F5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5919-88BB-4648-A1BB-76293B6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29C-8C84-4386-9A84-804A3AE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BFB9-794B-4B36-85BA-5157A91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DA14-37B3-49CE-8A31-6A5DDDE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3F25F-853D-4BBE-9937-09326F33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BE8CF-4AC1-41EB-BF2A-2A2DD8EB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7B93-52E5-40F0-9130-F4CFDC7C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3E5CD-2C04-4032-94D7-645C45C3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D537-7D47-4910-B23D-7B0CE529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7842-5935-42FB-9C19-B4C4C53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7F25-E5E7-44B6-A1D0-9F40941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733C-09B3-46B8-991D-FB06F520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75F-C009-448C-9E6E-9236A0B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6A62-DAFC-4C5A-82CE-628F3BB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DE1EF-E0CB-4F06-BE89-7A2685C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8213D-1137-46F5-987B-80B12DC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24CF-14F0-43E0-891E-74D5B05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2C7E0-443A-44B1-8FD1-6E0690F1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17908-1A3C-4988-AEF3-86D09407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7754-1FB7-49F1-9970-73E59EBD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B52-C7E5-4209-A733-2989347DB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B39B-F786-48ED-A405-17D22407BD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3F53-8BDF-4D8E-80DC-D838D46A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0F7-AA4F-475D-8F68-7C9317431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170-9BA0-41CE-8273-BC35FE9E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E92D-9D14-4895-9A48-9B9AB440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F17-2360-4B88-9BAB-189287A096C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5DE-652F-46B6-9415-16970444285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67920" cy="18828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396720" y="2127240"/>
            <a:ext cx="8393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152280" y="666720"/>
            <a:ext cx="8991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enjoy romantic comedies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about romantic movies do you enjoy or hat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wish your life was like a romantic comedy?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are the similarities in the movie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are the boys portrayed? How are the gir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bitu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r’s blo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peless romant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tracted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pest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pep talk didn’t the friend offer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.) inspirational B.) new opportunity C.) More chances available D.) You made a mistak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doesn’t the friend have to confirm the other man’s decision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did the letter say the man died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did the letter say the man changed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) They fall in love without knowing each other for a whi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) The guy always messes up and must do something to ‘PROVE’ his lo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ually something stupid in publi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d usually a long and stupid speec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ow Notting Hill Cli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.)Movie never shows the problems that occur in every relationship over ti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.)The actors always say the perfect thing at the perfect time (show video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.) The Rom Com is blamed with creating unrealistic expectations in real life relationship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ewers of the romantic comedy were found to be more likely to believe in fate and destiny  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(http://content.time.com/time/health/article/0,8599,1868389,00.html)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t very popul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tics love th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ually seen as too realistic and too uncomfortable for the average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so described as too bor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story of a relationship between two people over the course of 20 yea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Sunr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Suns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Midnigh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ow trai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vies are loved by a small passionate group of peop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et all three movies together have only made about $40 million tot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 comparison a typical Rom Com will make $40 million in the first weekend it is relea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your favorite type of mov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like realistic movies or escapism movies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think movies influence how you view your relationships? Your lif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pularity versus praise. What would you prefer, to be popular or to be praised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la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lusion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crewed ov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irred something (shit) u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ter under the brid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en is the woman only truly happy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when she is alone B. when she is with her lover c. when she is listening to music D. alway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s the woman still a romantic? Why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esn’t the woman like the man’s book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)it was badly written B. it reminded her of her past C. it was too long D. it was sa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is she dying insid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she feels pain B. she feels numb C. she feels excitement D. She is bit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round brea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ke a dog that keeps coming ba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id the girl say to the guy back in the room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I don’t love you anymore B. Stop it C. Its not your book D. she didn’t say anyth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es the man “play a game” and tell her, “her ass will look great when she is 80?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he is bored B. Its from a book C. to have fun. D. To make her laug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 you think she asks him about a time machin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5652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ending do you like better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ending is more realistic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 you had to watch a movie with your boyfriend or girlfriend which movie would you choo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fter watching these different clips, why do you think Rom Coms are more popular than realistic movie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2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Notting hill ending, love actually ending, before midnight ending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ies that uses romance and comedy to tell a love sto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vies make hundreds of millions of dollars every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r example, </a:t>
            </a: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How to Lose a Guy in 10 Days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de almost $200,000,00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st famous actresses and actors will be in at least one of these movies (Notting Hill Traile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52280" y="522360"/>
            <a:ext cx="83822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th main actor and actress will be very handsome and/or beautifu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us, in reality, would  not be singl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itle of movie is cute and clev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tting Hill, Ten things I hate about you, The Proposal, Maid in Manhattan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riends of the main actors will be very strange and do stupid things yet always give the best advi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atch video of spik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-33480" y="152280"/>
            <a:ext cx="9155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t the beginning the two people are very very differ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ts of montages of happy times (dates, kisses) and sad times (crying, drinking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 of old songs and new catchy song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ie critics hate these movies yet a lot people love th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ilar to action mov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y meets girl, boy and girl get together, boy and girl break up, guy does something stupid to get the girl back, they live happy ever a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3" name="Content Placeholder 3" descr=""/>
          <p:cNvPicPr/>
          <p:nvPr/>
        </p:nvPicPr>
        <p:blipFill>
          <a:blip r:embed="rId1"/>
          <a:stretch/>
        </p:blipFill>
        <p:spPr>
          <a:xfrm>
            <a:off x="152280" y="41400"/>
            <a:ext cx="876312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6:08:59Z</dcterms:created>
  <dc:creator>eduffy25</dc:creator>
  <dc:description/>
  <dc:language>en-US</dc:language>
  <cp:lastModifiedBy>eduffy25</cp:lastModifiedBy>
  <dcterms:modified xsi:type="dcterms:W3CDTF">2014-03-23T09:42:49Z</dcterms:modified>
  <cp:revision>22</cp:revision>
  <dc:subject/>
  <dc:title>Movies, Media, and Matrimony</dc:title>
</cp:coreProperties>
</file>